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11.png" ContentType="image/png"/>
  <Override PartName="/ppt/media/image19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907588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714240" y="735120"/>
            <a:ext cx="530712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644A-74A4-4F2A-AFF8-D8E15E329149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714240" y="735120"/>
            <a:ext cx="5307120" cy="36748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3 Slayt Numarası Yer Tutucusu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94BB-FD4D-40A9-8091-E86D23D49A3A}" type="slidenum">
              <a:rPr b="0" lang="tr-T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181E-7E78-47D5-90A5-ADCB2A61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E142-6E49-4111-92D4-92B8F7A9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605B-7C27-42C5-95C3-CA6FDF6F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50C6-69C6-4F90-A4AA-57EC4009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BD8E-55EF-4353-9005-A2EA51F4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B3AE-0C13-40F2-A7A9-203E2483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3E37-4A71-44C4-B4FD-F7C8768F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1781-E452-4FF5-9B17-CBCF3E26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43D6-B841-48BC-A15F-1CC0D8E2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453C-D5E0-430F-AD68-2D8CE8D3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C5C7-B304-43C7-8B01-B86C5AB9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797D-A655-4D7B-A0E9-D1E2B455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707E-FE0B-49C8-BF1E-94C9D3E4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7663-E285-4FD5-ADEF-81268CA8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A654-7702-4208-BC11-B1A446FC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4C00-3E98-4FD4-92EC-AB2CA2AC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35E6-6133-4350-9B02-35AC72B5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1997B-D442-4377-BECC-2BB27D0A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AC06F-1C8C-4E08-8890-E48EA59C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DEA8D-FE3E-45FC-8833-F9C4F4DC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AFE2A-97E7-4796-8129-7BCD294A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1D1EA-75A8-40D6-8250-D570949C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302B-C523-40D2-AD15-DC49EBDB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DFC5E-D21F-48E0-A8B9-67EF3003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F96E0-5EA4-4C4D-B0EA-D7F244D2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B80D0-7ED6-47C7-9FBB-E3E74538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3F7FD-EDB7-4369-8487-BBB80DFA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03F70-BBAE-425B-A651-6F1B4E7E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1F908-FE49-47D1-BEB5-A594A83C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0C9C4-074F-4749-8B76-EDAFE6E9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74161-237D-48A4-8455-7FAE7FF6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87E6A-87A3-452B-BB81-EEFDB314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33B86-9E0C-4484-8712-5A414D0F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B8C9-28BC-40AC-A7FB-D0ADFCC7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552FF-F561-452A-B535-40421557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AAE4A-F2BE-4442-88CB-D391595B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8F152-E3BE-44B1-B6A0-4B5AF804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A5C79-CDBB-43A7-A249-4769D2B1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5CF91-B288-4BCF-9207-8F7CF45A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CD5F9-6124-4E8F-9651-0F0C7AB0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B3717-754A-442E-81A8-495C383B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B11E2-D631-4482-8F80-E4CD9204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CF6B6-5A44-4F0F-A38D-4A0C65E4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6202-E71A-45F0-B609-C55C697E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3A69-EA32-488B-A622-2B084886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6781-BA33-48AF-9EBC-A121FEC8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F60C-5124-4D55-B390-BA040688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6B80-B98B-4994-B6A4-E4961652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C1A1-038A-4EE9-82E4-69CEAC17E657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CA83-763D-43E3-9E29-48BA4D7E6C95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D362-A2E7-43DE-B996-AC7E01550B23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F52D-3D5A-4218-A344-63D7ECB4997B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11 Dikdörtgen"/>
          <p:cNvSpPr/>
          <p:nvPr/>
        </p:nvSpPr>
        <p:spPr>
          <a:xfrm>
            <a:off x="598320" y="2679840"/>
            <a:ext cx="971244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0" y="0"/>
            <a:ext cx="990612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6 Slayt Numarası Yer Tutucusu"/>
          <p:cNvSpPr/>
          <p:nvPr/>
        </p:nvSpPr>
        <p:spPr>
          <a:xfrm>
            <a:off x="9164520" y="6492960"/>
            <a:ext cx="663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98F6-B87F-474B-96DE-0F76B303B582}" type="slidenum">
              <a:rPr b="1" lang="tr-TR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r>
              <a:rPr b="1" lang="tr-TR" sz="1200" spc="-1" strike="noStrike">
                <a:solidFill>
                  <a:srgbClr val="7f7f7f"/>
                </a:solidFill>
                <a:latin typeface="Arial"/>
              </a:rPr>
              <a:t>/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Image 13" descr="bas de page.jpg"/>
          <p:cNvPicPr/>
          <p:nvPr/>
        </p:nvPicPr>
        <p:blipFill>
          <a:blip r:embed="rId1"/>
          <a:stretch/>
        </p:blipFill>
        <p:spPr>
          <a:xfrm>
            <a:off x="0" y="5857920"/>
            <a:ext cx="9826560" cy="1000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wmo"/>
          <p:cNvPicPr/>
          <p:nvPr/>
        </p:nvPicPr>
        <p:blipFill>
          <a:blip r:embed="rId2"/>
          <a:stretch/>
        </p:blipFill>
        <p:spPr>
          <a:xfrm>
            <a:off x="8899560" y="0"/>
            <a:ext cx="901800" cy="87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6" name="Rectangle 10"/>
          <p:cNvSpPr/>
          <p:nvPr/>
        </p:nvSpPr>
        <p:spPr>
          <a:xfrm>
            <a:off x="5110200" y="5932440"/>
            <a:ext cx="46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Calibri"/>
              </a:rPr>
              <a:t>presented by </a:t>
            </a: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PHILIPPE RICH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5"/>
          <p:cNvSpPr/>
          <p:nvPr/>
        </p:nvSpPr>
        <p:spPr>
          <a:xfrm>
            <a:off x="271440" y="2133720"/>
            <a:ext cx="92836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Arial Unicode MS"/>
              </a:rPr>
              <a:t>Department of National Meteo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Arial Unicode MS"/>
              </a:rPr>
              <a:t>Yaoundé-Camer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3"/>
          <a:stretch/>
        </p:blipFill>
        <p:spPr>
          <a:xfrm>
            <a:off x="200160" y="216000"/>
            <a:ext cx="69840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제목 17" descr=""/>
          <p:cNvPicPr/>
          <p:nvPr/>
        </p:nvPicPr>
        <p:blipFill>
          <a:blip r:embed="rId1"/>
          <a:stretch/>
        </p:blipFill>
        <p:spPr>
          <a:xfrm>
            <a:off x="6480" y="85680"/>
            <a:ext cx="9856800" cy="74304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356"/>
          <p:cNvSpPr/>
          <p:nvPr/>
        </p:nvSpPr>
        <p:spPr>
          <a:xfrm>
            <a:off x="166680" y="1276200"/>
            <a:ext cx="473400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56"/>
          <p:cNvSpPr/>
          <p:nvPr/>
        </p:nvSpPr>
        <p:spPr>
          <a:xfrm>
            <a:off x="5005440" y="1276200"/>
            <a:ext cx="4728960" cy="20034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한쪽 모서리는 잘리고 다른 쪽 모서리는 둥근 사각형 6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Upper Air Observation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한쪽 모서리는 잘리고 다른 쪽 모서리는 둥근 사각형 9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Problems &amp; Improvement Di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98360" y="1789200"/>
          <a:ext cx="4668840" cy="1603440"/>
        </p:xfrm>
        <a:graphic>
          <a:graphicData uri="http://schemas.openxmlformats.org/drawingml/2006/table">
            <a:tbl>
              <a:tblPr/>
              <a:tblGrid>
                <a:gridCol w="925560"/>
                <a:gridCol w="906480"/>
                <a:gridCol w="28368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 s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r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al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ECNA (Radiosonde: Degrieea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oun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osonde (HT03G-1U GPS, China)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Upper air observation is under consideration; DMN has transferred equipment to ASECNA due to lack of observation personne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aounde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bal(ASECNA/CCA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TextBox 8"/>
          <p:cNvSpPr/>
          <p:nvPr/>
        </p:nvSpPr>
        <p:spPr>
          <a:xfrm>
            <a:off x="166680" y="1425600"/>
            <a:ext cx="473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ⓐ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Upper Air Observation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0"/>
          <p:cNvSpPr/>
          <p:nvPr/>
        </p:nvSpPr>
        <p:spPr>
          <a:xfrm>
            <a:off x="166680" y="3416400"/>
            <a:ext cx="473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Upper Air Observation Elem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01600" y="3770280"/>
          <a:ext cx="4664160" cy="1285920"/>
        </p:xfrm>
        <a:graphic>
          <a:graphicData uri="http://schemas.openxmlformats.org/drawingml/2006/table">
            <a:tbl>
              <a:tblPr/>
              <a:tblGrid>
                <a:gridCol w="927000"/>
                <a:gridCol w="935280"/>
                <a:gridCol w="933480"/>
                <a:gridCol w="1081080"/>
                <a:gridCol w="787320"/>
              </a:tblGrid>
              <a:tr h="420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ype of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l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ta collection 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yc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eth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76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adioson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, H, P, G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WS, W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 time/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 time/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an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t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 gridSpan="4"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5049720" y="1465200"/>
          <a:ext cx="4640400" cy="1733760"/>
        </p:xfrm>
        <a:graphic>
          <a:graphicData uri="http://schemas.openxmlformats.org/drawingml/2006/table">
            <a:tbl>
              <a:tblPr/>
              <a:tblGrid>
                <a:gridCol w="2319480"/>
                <a:gridCol w="2320920"/>
              </a:tblGrid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dir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887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ficient number of st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umber of st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ficient number of person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umber of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k of tr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e capacity buil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k of consum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uring consum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urity / safety of Hydrog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ing safety measu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Rectangle 356"/>
          <p:cNvSpPr/>
          <p:nvPr/>
        </p:nvSpPr>
        <p:spPr>
          <a:xfrm>
            <a:off x="5005440" y="3546360"/>
            <a:ext cx="4728960" cy="31053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한쪽 모서리는 잘리고 다른 쪽 모서리는 둥근 사각형 15"/>
          <p:cNvSpPr/>
          <p:nvPr/>
        </p:nvSpPr>
        <p:spPr>
          <a:xfrm>
            <a:off x="5005440" y="336708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Improvement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그림 18" descr="E:\2018\1.프로젝트\04.(NIPA)카메룬(★)\06. 수행\07.2차출장\카메룬1차출장\2018-07-03\DSC06008.JPG"/>
          <p:cNvPicPr/>
          <p:nvPr/>
        </p:nvPicPr>
        <p:blipFill>
          <a:blip r:embed="rId2"/>
          <a:stretch/>
        </p:blipFill>
        <p:spPr>
          <a:xfrm>
            <a:off x="206280" y="5099040"/>
            <a:ext cx="2270160" cy="1488960"/>
          </a:xfrm>
          <a:prstGeom prst="rect">
            <a:avLst/>
          </a:prstGeom>
          <a:ln w="0">
            <a:noFill/>
          </a:ln>
        </p:spPr>
      </p:pic>
      <p:pic>
        <p:nvPicPr>
          <p:cNvPr id="298" name="그림 19" descr="E:\2018\1.프로젝트\04.(NIPA)카메룬(★)\06. 수행\07.2차출장\카메룬1차출장\2018-07-03\DSC06011.JPG"/>
          <p:cNvPicPr/>
          <p:nvPr/>
        </p:nvPicPr>
        <p:blipFill>
          <a:blip r:embed="rId3"/>
          <a:stretch/>
        </p:blipFill>
        <p:spPr>
          <a:xfrm>
            <a:off x="2533680" y="5099040"/>
            <a:ext cx="2317680" cy="148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9" name=""/>
          <p:cNvGraphicFramePr/>
          <p:nvPr/>
        </p:nvGraphicFramePr>
        <p:xfrm>
          <a:off x="5043600" y="3797280"/>
          <a:ext cx="4651200" cy="2641680"/>
        </p:xfrm>
        <a:graphic>
          <a:graphicData uri="http://schemas.openxmlformats.org/drawingml/2006/table">
            <a:tbl>
              <a:tblPr/>
              <a:tblGrid>
                <a:gridCol w="1833480"/>
                <a:gridCol w="2817720"/>
              </a:tblGrid>
              <a:tr h="3589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measu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ai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382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new upper air s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Improvements to the two upper air stations that are currently in ope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chase consum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urchase consumables for radioson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all high-tech observation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Installation and operation of wind profiler and radiometer at existing and new st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ster staffs for upper air observation , capacity buil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Foster technical staffs for upper-air observation  based on WMO standar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제목 17" descr=""/>
          <p:cNvPicPr/>
          <p:nvPr/>
        </p:nvPicPr>
        <p:blipFill>
          <a:blip r:embed="rId1"/>
          <a:stretch/>
        </p:blipFill>
        <p:spPr>
          <a:xfrm>
            <a:off x="36360" y="139680"/>
            <a:ext cx="9777600" cy="68904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356"/>
          <p:cNvSpPr/>
          <p:nvPr/>
        </p:nvSpPr>
        <p:spPr>
          <a:xfrm>
            <a:off x="166680" y="1276200"/>
            <a:ext cx="4734000" cy="182268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한쪽 모서리는 잘리고 다른 쪽 모서리는 둥근 사각형 6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Meteorological Satellite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204840" y="1473120"/>
          <a:ext cx="4657680" cy="1552680"/>
        </p:xfrm>
        <a:graphic>
          <a:graphicData uri="http://schemas.openxmlformats.org/drawingml/2006/table">
            <a:tbl>
              <a:tblPr/>
              <a:tblGrid>
                <a:gridCol w="1057320"/>
                <a:gridCol w="801720"/>
                <a:gridCol w="1003320"/>
                <a:gridCol w="760320"/>
                <a:gridCol w="1035000"/>
              </a:tblGrid>
              <a:tr h="64476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fic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untr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v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v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 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90792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ostationary meteorological 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METS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age (Vis, IR, Watervapo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min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m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MA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356"/>
          <p:cNvSpPr/>
          <p:nvPr/>
        </p:nvSpPr>
        <p:spPr>
          <a:xfrm>
            <a:off x="166680" y="3394080"/>
            <a:ext cx="4734000" cy="325764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한쪽 모서리는 잘리고 다른 쪽 모서리는 둥근 사각형 8"/>
          <p:cNvSpPr/>
          <p:nvPr/>
        </p:nvSpPr>
        <p:spPr>
          <a:xfrm>
            <a:off x="166680" y="321300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Problems and Improvement Di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09520" y="3630600"/>
          <a:ext cx="4673520" cy="207000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</a:tblGrid>
              <a:tr h="3589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Dir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2840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tional struc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 organization for satelli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ficient number of person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umber of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direct satellite receiving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ment of satellite receiving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k of tr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e capacity building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stering professional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5043600" y="1468440"/>
          <a:ext cx="4672080" cy="3014640"/>
        </p:xfrm>
        <a:graphic>
          <a:graphicData uri="http://schemas.openxmlformats.org/drawingml/2006/table">
            <a:tbl>
              <a:tblPr/>
              <a:tblGrid>
                <a:gridCol w="1930320"/>
                <a:gridCol w="2741760"/>
              </a:tblGrid>
              <a:tr h="3920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meas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a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7146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eception of geostationary satellite da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stablishing a  system to receive observation data of nearest geostationary orbiting 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eception of polar-orbit meteorological satellite da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stablishing a system to receive observation data of polar orbiting meteorological 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atellite data analysis and utilization of application featu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stablishing a system to develop algorithms and verify calculated data required for creating meteorological element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Foster professional staffs for meteorological 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ecuring professional manpower / conduct tr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Rectangle 356"/>
          <p:cNvSpPr/>
          <p:nvPr/>
        </p:nvSpPr>
        <p:spPr>
          <a:xfrm>
            <a:off x="5005440" y="1276200"/>
            <a:ext cx="472896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한쪽 모서리는 잘리고 다른 쪽 모서리는 둥근 사각형 11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Improvement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제목 17" descr=""/>
          <p:cNvPicPr/>
          <p:nvPr/>
        </p:nvPicPr>
        <p:blipFill>
          <a:blip r:embed="rId1"/>
          <a:stretch/>
        </p:blipFill>
        <p:spPr>
          <a:xfrm>
            <a:off x="6480" y="85680"/>
            <a:ext cx="9807480" cy="74304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356"/>
          <p:cNvSpPr/>
          <p:nvPr/>
        </p:nvSpPr>
        <p:spPr>
          <a:xfrm>
            <a:off x="166680" y="1276200"/>
            <a:ext cx="4734000" cy="33609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56"/>
          <p:cNvSpPr/>
          <p:nvPr/>
        </p:nvSpPr>
        <p:spPr>
          <a:xfrm>
            <a:off x="5005440" y="1276200"/>
            <a:ext cx="4728960" cy="249408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한쪽 모서리는 잘리고 다른 쪽 모서리는 둥근 사각형 6"/>
          <p:cNvSpPr/>
          <p:nvPr/>
        </p:nvSpPr>
        <p:spPr>
          <a:xfrm>
            <a:off x="166680" y="1052640"/>
            <a:ext cx="416736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Test &amp; Calibration Status (Met. Instrume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한쪽 모서리는 잘리고 다른 쪽 모서리는 둥근 사각형 9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Problems and Improvement Di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222120" y="2058840"/>
          <a:ext cx="4621320" cy="2513160"/>
        </p:xfrm>
        <a:graphic>
          <a:graphicData uri="http://schemas.openxmlformats.org/drawingml/2006/table">
            <a:tbl>
              <a:tblPr/>
              <a:tblGrid>
                <a:gridCol w="1347840"/>
                <a:gridCol w="1521000"/>
                <a:gridCol w="1100160"/>
                <a:gridCol w="652320"/>
              </a:tblGrid>
              <a:tr h="285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ified Instru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ifying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414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al thermometer,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mograp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grograp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mospheric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ometre, Barograp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y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ipi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 gridSpan="3" rowSpan="3"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ar Radi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shine du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TextBox 10"/>
          <p:cNvSpPr/>
          <p:nvPr/>
        </p:nvSpPr>
        <p:spPr>
          <a:xfrm>
            <a:off x="166680" y="1424160"/>
            <a:ext cx="47340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HQ: 1 temperature, 1 humidity, 1 air pressure calibration equipment (Chinese assistance) / No calibration instruments in regional stations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56"/>
          <p:cNvSpPr/>
          <p:nvPr/>
        </p:nvSpPr>
        <p:spPr>
          <a:xfrm>
            <a:off x="5005440" y="4092480"/>
            <a:ext cx="4728960" cy="255924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한쪽 모서리는 잘리고 다른 쪽 모서리는 둥근 사각형 14"/>
          <p:cNvSpPr/>
          <p:nvPr/>
        </p:nvSpPr>
        <p:spPr>
          <a:xfrm>
            <a:off x="5005440" y="3868560"/>
            <a:ext cx="3887640" cy="36072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Improvement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5033880" y="4284720"/>
          <a:ext cx="4672080" cy="2222280"/>
        </p:xfrm>
        <a:graphic>
          <a:graphicData uri="http://schemas.openxmlformats.org/drawingml/2006/table">
            <a:tbl>
              <a:tblPr/>
              <a:tblGrid>
                <a:gridCol w="1930320"/>
                <a:gridCol w="2741760"/>
              </a:tblGrid>
              <a:tr h="3967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meas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a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144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a dedicated department / service for calib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a dedicated department / service for calib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test &amp; calibration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stablishing tasks, such as regulations for calibration, and purchasing and operating calibration equi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stering professional staf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Foster professional staffs specialized for test &amp; calib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0" name="그림 16" descr="E:\2018\1.프로젝트\04.(NIPA)카메룬(★)\06. 수행\07.2차출장\카메룬2차출장\IMG_2658.jpg"/>
          <p:cNvPicPr/>
          <p:nvPr/>
        </p:nvPicPr>
        <p:blipFill>
          <a:blip r:embed="rId2"/>
          <a:stretch/>
        </p:blipFill>
        <p:spPr>
          <a:xfrm>
            <a:off x="166680" y="4729320"/>
            <a:ext cx="2340000" cy="1753920"/>
          </a:xfrm>
          <a:prstGeom prst="rect">
            <a:avLst/>
          </a:prstGeom>
          <a:ln w="0">
            <a:noFill/>
          </a:ln>
        </p:spPr>
      </p:pic>
      <p:pic>
        <p:nvPicPr>
          <p:cNvPr id="321" name="그림 18" descr="E:\2018\1.프로젝트\04.(NIPA)카메룬(★)\06. 수행\07.2차출장\카메룬2차출장\IMG_2652.jpg"/>
          <p:cNvPicPr/>
          <p:nvPr/>
        </p:nvPicPr>
        <p:blipFill>
          <a:blip r:embed="rId3"/>
          <a:stretch/>
        </p:blipFill>
        <p:spPr>
          <a:xfrm>
            <a:off x="2560680" y="4729320"/>
            <a:ext cx="2340000" cy="177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2" name=""/>
          <p:cNvGraphicFramePr/>
          <p:nvPr/>
        </p:nvGraphicFramePr>
        <p:xfrm>
          <a:off x="5033880" y="1481040"/>
          <a:ext cx="4672080" cy="2192400"/>
        </p:xfrm>
        <a:graphic>
          <a:graphicData uri="http://schemas.openxmlformats.org/drawingml/2006/table">
            <a:tbl>
              <a:tblPr/>
              <a:tblGrid>
                <a:gridCol w="2336760"/>
                <a:gridCol w="2335320"/>
              </a:tblGrid>
              <a:tr h="3366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robl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Improvement Dir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636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tional struc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 organization for test &amp; calibra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ficient number of person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umber of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k of tr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e capacity building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stering professional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ck of equi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curing test &amp; calibration equi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제목 17" descr=""/>
          <p:cNvPicPr/>
          <p:nvPr/>
        </p:nvPicPr>
        <p:blipFill>
          <a:blip r:embed="rId1"/>
          <a:stretch/>
        </p:blipFill>
        <p:spPr>
          <a:xfrm>
            <a:off x="36360" y="139680"/>
            <a:ext cx="9704520" cy="68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4" name=""/>
          <p:cNvGraphicFramePr/>
          <p:nvPr/>
        </p:nvGraphicFramePr>
        <p:xfrm>
          <a:off x="210960" y="2647800"/>
          <a:ext cx="4645080" cy="1654200"/>
        </p:xfrm>
        <a:graphic>
          <a:graphicData uri="http://schemas.openxmlformats.org/drawingml/2006/table">
            <a:tbl>
              <a:tblPr/>
              <a:tblGrid>
                <a:gridCol w="1262160"/>
                <a:gridCol w="3382920"/>
              </a:tblGrid>
              <a:tr h="28656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 du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374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ou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Generation of avi-met forecast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Aviation, Take-off/landing forecast, TAF) and dissemin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0774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aounde - Nsimalen Ngaounde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rou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 data collection and transmit to Douala Air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rovision of service (by using forecast data from Doual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TextBox 25"/>
          <p:cNvSpPr/>
          <p:nvPr/>
        </p:nvSpPr>
        <p:spPr>
          <a:xfrm>
            <a:off x="166680" y="1420920"/>
            <a:ext cx="4734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Status)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No Avi-met service in D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International Airport)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ASECNA (4 airpor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Domestic Airport)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CCAA</a:t>
            </a:r>
            <a:r>
              <a:rPr b="0" lang="ko-KR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4</a:t>
            </a:r>
            <a:r>
              <a:rPr b="0" lang="ko-KR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airports)</a:t>
            </a:r>
            <a:r>
              <a:rPr b="0" lang="ko-KR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→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Planning to increase to 5</a:t>
            </a:r>
            <a:r>
              <a:rPr b="0" lang="ko-KR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Bertou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56"/>
          <p:cNvSpPr/>
          <p:nvPr/>
        </p:nvSpPr>
        <p:spPr>
          <a:xfrm>
            <a:off x="166680" y="1276200"/>
            <a:ext cx="4734000" cy="29880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56"/>
          <p:cNvSpPr/>
          <p:nvPr/>
        </p:nvSpPr>
        <p:spPr>
          <a:xfrm>
            <a:off x="5008680" y="1276200"/>
            <a:ext cx="4728960" cy="36990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한쪽 모서리는 잘리고 다른 쪽 모서리는 둥근 사각형 7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Communication /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한쪽 모서리는 잘리고 다른 쪽 모서리는 둥근 사각형 33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Aviation met.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56"/>
          <p:cNvSpPr/>
          <p:nvPr/>
        </p:nvSpPr>
        <p:spPr>
          <a:xfrm>
            <a:off x="166680" y="4527720"/>
            <a:ext cx="4734000" cy="21240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한쪽 모서리는 잘리고 다른 쪽 모서리는 둥근 사각형 18"/>
          <p:cNvSpPr/>
          <p:nvPr/>
        </p:nvSpPr>
        <p:spPr>
          <a:xfrm>
            <a:off x="166680" y="434808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Aviation met. Obser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04840" y="4983120"/>
          <a:ext cx="4656240" cy="1351080"/>
        </p:xfrm>
        <a:graphic>
          <a:graphicData uri="http://schemas.openxmlformats.org/drawingml/2006/table">
            <a:tbl>
              <a:tblPr/>
              <a:tblGrid>
                <a:gridCol w="1031760"/>
                <a:gridCol w="1890720"/>
                <a:gridCol w="1733760"/>
              </a:tblGrid>
              <a:tr h="2034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El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time, re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7116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ounde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Nsimal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R (T, H, P, WD, WS…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 (T, H, P, WD, WS…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min / 24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aounde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ased on the flight schedule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rou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bal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0min / 24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텍스트 상자 1"/>
          <p:cNvSpPr/>
          <p:nvPr/>
        </p:nvSpPr>
        <p:spPr>
          <a:xfrm>
            <a:off x="166680" y="4664160"/>
            <a:ext cx="4734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ⓐ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International Air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1"/>
          <p:cNvSpPr/>
          <p:nvPr/>
        </p:nvSpPr>
        <p:spPr>
          <a:xfrm>
            <a:off x="166680" y="6332400"/>
            <a:ext cx="473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ⓑ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omestic Airport: Get info from Douala (request-ba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5041800" y="1747800"/>
          <a:ext cx="4662720" cy="1122480"/>
        </p:xfrm>
        <a:graphic>
          <a:graphicData uri="http://schemas.openxmlformats.org/drawingml/2006/table">
            <a:tbl>
              <a:tblPr/>
              <a:tblGrid>
                <a:gridCol w="1177920"/>
                <a:gridCol w="1177920"/>
                <a:gridCol w="2306880"/>
              </a:tblGrid>
              <a:tr h="233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11320">
                <a:tc rowSpan="4"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ound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ne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U / LF Aeronautical Telecommunication / SM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1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a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aounde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ro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5041800" y="3203640"/>
          <a:ext cx="4662720" cy="1695240"/>
        </p:xfrm>
        <a:graphic>
          <a:graphicData uri="http://schemas.openxmlformats.org/drawingml/2006/table">
            <a:tbl>
              <a:tblPr/>
              <a:tblGrid>
                <a:gridCol w="1189080"/>
                <a:gridCol w="1263600"/>
                <a:gridCol w="1131840"/>
                <a:gridCol w="1078200"/>
              </a:tblGrid>
              <a:tr h="287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ecast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87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port forec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lots and aircra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e-off and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ding forec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REPORT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Tendenc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et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lots and aircra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forec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time/1 day, 07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ning weat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GWEAT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Regional, Aerodo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shea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텍스트 상자 1"/>
          <p:cNvSpPr/>
          <p:nvPr/>
        </p:nvSpPr>
        <p:spPr>
          <a:xfrm>
            <a:off x="5008680" y="1420920"/>
            <a:ext cx="4732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ⓐ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텍스트 상자 1"/>
          <p:cNvSpPr/>
          <p:nvPr/>
        </p:nvSpPr>
        <p:spPr>
          <a:xfrm>
            <a:off x="5008680" y="2876400"/>
            <a:ext cx="4732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ⓑ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Fore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56"/>
          <p:cNvSpPr/>
          <p:nvPr/>
        </p:nvSpPr>
        <p:spPr>
          <a:xfrm>
            <a:off x="5008680" y="5265720"/>
            <a:ext cx="4728960" cy="13860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한쪽 모서리는 잘리고 다른 쪽 모서리는 둥근 사각형 29"/>
          <p:cNvSpPr/>
          <p:nvPr/>
        </p:nvSpPr>
        <p:spPr>
          <a:xfrm>
            <a:off x="5005440" y="504180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4) Problems / Improvement Di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5070600" y="5483160"/>
          <a:ext cx="4603680" cy="1179720"/>
        </p:xfrm>
        <a:graphic>
          <a:graphicData uri="http://schemas.openxmlformats.org/drawingml/2006/table">
            <a:tbl>
              <a:tblPr/>
              <a:tblGrid>
                <a:gridCol w="2301840"/>
                <a:gridCol w="2301840"/>
              </a:tblGrid>
              <a:tr h="2286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di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479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vi-met. Service by other agenc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eorganization in order to let DNM provide avi-met. Serv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No organ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rganization, Manpower, Training, Equipment, et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Private stations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OCAPALM: 03 s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,CDC: 23 raingau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ODECOTON:35 pluviomet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HEVECAM: 05 automatic s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jet PULCI 47 automatic s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DC:25 automatic s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reation of a ministerial law that oblige any private station to declare its station to DMN and regularly transmit  their data to DM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We are in the process of collecting thes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Difficulté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0760" y="1825200"/>
            <a:ext cx="90262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Vétusté du résea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suffisance du personne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xistence d’autres entités faisant la meteo au sein du p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Perspectiv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ecrutement en cours du personnel(250) tout grade confon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jet en cours de sauvetage des données histor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extBox 4" descr=""/>
          <p:cNvPicPr/>
          <p:nvPr/>
        </p:nvPicPr>
        <p:blipFill>
          <a:blip r:embed="rId1"/>
          <a:stretch/>
        </p:blipFill>
        <p:spPr>
          <a:xfrm>
            <a:off x="2328840" y="2036880"/>
            <a:ext cx="517536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1"/>
          <p:cNvSpPr/>
          <p:nvPr/>
        </p:nvSpPr>
        <p:spPr>
          <a:xfrm>
            <a:off x="1539720" y="2690640"/>
            <a:ext cx="71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HYSICAL NATIONAL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ATIONAL REQUIRMENT ABOUT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VENTORY  OF OBSERVATION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ISCELLA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제목 17" descr=""/>
          <p:cNvPicPr/>
          <p:nvPr/>
        </p:nvPicPr>
        <p:blipFill>
          <a:blip r:embed="rId1"/>
          <a:stretch/>
        </p:blipFill>
        <p:spPr>
          <a:xfrm>
            <a:off x="-19080" y="42840"/>
            <a:ext cx="9759960" cy="7858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56"/>
          <p:cNvSpPr/>
          <p:nvPr/>
        </p:nvSpPr>
        <p:spPr>
          <a:xfrm>
            <a:off x="169920" y="1276200"/>
            <a:ext cx="956448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7040" y="1495440"/>
          <a:ext cx="4591080" cy="5067360"/>
        </p:xfrm>
        <a:graphic>
          <a:graphicData uri="http://schemas.openxmlformats.org/drawingml/2006/table">
            <a:tbl>
              <a:tblPr/>
              <a:tblGrid>
                <a:gridCol w="1078200"/>
                <a:gridCol w="3512880"/>
              </a:tblGrid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 of count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ublic of Camero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 Africa (Western side), Atlantic coastal 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5,442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im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tropical Climate (Dry season: Dec ~ Mar / Wet season: Jun ~ No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c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ound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ul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million (201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or citi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tical capital : Yaoundé / Economic Capital : Doua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on Highlander 31%, Equitorial Bantu 19%, Kirdi 11%, Fulani 10%, Northwestern Bantu 8%, Eastern Nigritic 7%, Other African 1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gu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nch, English, traditional langu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g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imism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40%), Christian (40%), Islamic 20%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pendence 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0. 1.1 (Independence from Franc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vernment for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idential Republ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ss Domestic </a:t>
                      </a:r>
                      <a:br>
                        <a:rPr sz="900"/>
                      </a:b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 (GD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0.9 billion (201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 capita GDP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303 (201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rrenc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 African CFA Franc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XOF}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structu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e 48%, Manufacturing 31%, Agriculture 22% (201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52560" rIns="52560" tIns="14400" bIns="144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or resour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troleum, Bauxite, Iron ore, Wood, Fishe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 gridSpan="2"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rce: 2017 World National Handbook (Korea Eximbank), Rising Africa Series - Cameroon (Africa Strategy Center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206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3" name="직선 연결선 3"/>
          <p:cNvSpPr/>
          <p:nvPr/>
        </p:nvSpPr>
        <p:spPr>
          <a:xfrm>
            <a:off x="4933800" y="1413000"/>
            <a:ext cx="0" cy="4898880"/>
          </a:xfrm>
          <a:prstGeom prst="line">
            <a:avLst/>
          </a:prstGeom>
          <a:ln w="6480">
            <a:solidFill>
              <a:srgbClr val="2f5597"/>
            </a:solidFill>
            <a:prstDash val="sys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한쪽 모서리는 잘리고 다른 쪽 모서리는 둥근 사각형 12"/>
          <p:cNvSpPr/>
          <p:nvPr/>
        </p:nvSpPr>
        <p:spPr>
          <a:xfrm>
            <a:off x="169920" y="1052640"/>
            <a:ext cx="376236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. General status of Camero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https://www.cia.gov/library/publications/the-world-factbook/graphics/maps/large/cm-map.gif"/>
          <p:cNvPicPr/>
          <p:nvPr/>
        </p:nvPicPr>
        <p:blipFill>
          <a:blip r:embed="rId2"/>
          <a:stretch/>
        </p:blipFill>
        <p:spPr>
          <a:xfrm>
            <a:off x="5494320" y="1960560"/>
            <a:ext cx="367344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제목 17" descr=""/>
          <p:cNvPicPr/>
          <p:nvPr/>
        </p:nvPicPr>
        <p:blipFill>
          <a:blip r:embed="rId1"/>
          <a:stretch/>
        </p:blipFill>
        <p:spPr>
          <a:xfrm>
            <a:off x="-19080" y="42840"/>
            <a:ext cx="9759960" cy="785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356"/>
          <p:cNvSpPr/>
          <p:nvPr/>
        </p:nvSpPr>
        <p:spPr>
          <a:xfrm>
            <a:off x="169920" y="1276200"/>
            <a:ext cx="4734000" cy="30607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한쪽 모서리는 잘리고 다른 쪽 모서리는 둥근 사각형 11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Pol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169920" y="4734000"/>
            <a:ext cx="4734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dequate environment for agricultu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(plentiful amount of natural resources (petroleum, gas, forestry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70% of population i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griculture, forestry, fishery (20% of GD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169920" y="1417680"/>
            <a:ext cx="2612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60.1.1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- Independence from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6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- Foundation of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ameroonian National Union (CN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72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- Amendment of the  Constitution (became a unitary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dministrative distric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0 regions &gt; 58 div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차트 19" descr=""/>
          <p:cNvPicPr/>
          <p:nvPr/>
        </p:nvPicPr>
        <p:blipFill>
          <a:blip r:embed="rId2"/>
          <a:stretch/>
        </p:blipFill>
        <p:spPr>
          <a:xfrm>
            <a:off x="4836960" y="2651040"/>
            <a:ext cx="2710080" cy="2563920"/>
          </a:xfrm>
          <a:prstGeom prst="rect">
            <a:avLst/>
          </a:prstGeom>
          <a:ln w="0">
            <a:noFill/>
          </a:ln>
        </p:spPr>
      </p:pic>
      <p:pic>
        <p:nvPicPr>
          <p:cNvPr id="192" name="그림 17" descr=""/>
          <p:cNvPicPr/>
          <p:nvPr/>
        </p:nvPicPr>
        <p:blipFill>
          <a:blip r:embed="rId3"/>
          <a:stretch/>
        </p:blipFill>
        <p:spPr>
          <a:xfrm>
            <a:off x="2903400" y="1424160"/>
            <a:ext cx="1968480" cy="27669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56"/>
          <p:cNvSpPr/>
          <p:nvPr/>
        </p:nvSpPr>
        <p:spPr>
          <a:xfrm>
            <a:off x="169920" y="4554360"/>
            <a:ext cx="4734000" cy="20973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한쪽 모서리는 잘리고 다른 쪽 모서리는 둥근 사각형 24"/>
          <p:cNvSpPr/>
          <p:nvPr/>
        </p:nvSpPr>
        <p:spPr>
          <a:xfrm>
            <a:off x="166680" y="4373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Econom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56"/>
          <p:cNvSpPr/>
          <p:nvPr/>
        </p:nvSpPr>
        <p:spPr>
          <a:xfrm>
            <a:off x="5005440" y="1276200"/>
            <a:ext cx="472896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한쪽 모서리는 잘리고 다른 쪽 모서리는 둥근 사각형 26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7"/>
          <p:cNvSpPr/>
          <p:nvPr/>
        </p:nvSpPr>
        <p:spPr>
          <a:xfrm>
            <a:off x="5016600" y="1417680"/>
            <a:ext cx="4717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Total Populatio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24.01 million (Sex ratio: almost sa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Population structur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pyramid type (life expectancy: 56 ye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Urban population ratio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5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직사각형 28"/>
          <p:cNvSpPr/>
          <p:nvPr/>
        </p:nvSpPr>
        <p:spPr>
          <a:xfrm>
            <a:off x="5005440" y="4983120"/>
            <a:ext cx="47116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abor participation rate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76% (steadily increas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Enrollment rat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Primary education - Hi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Secondary education- 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(continuous education has not been achiev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iteracy rate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Relatively high (Adults: 75%, Female: 80.4%, Male: 87.1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29"/>
          <p:cNvSpPr/>
          <p:nvPr/>
        </p:nvSpPr>
        <p:spPr>
          <a:xfrm>
            <a:off x="6327720" y="4614840"/>
            <a:ext cx="1887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(Urbanization rate, 2017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직사각형 30"/>
          <p:cNvSpPr/>
          <p:nvPr/>
        </p:nvSpPr>
        <p:spPr>
          <a:xfrm>
            <a:off x="7504200" y="3882960"/>
            <a:ext cx="6397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Calibri"/>
                <a:ea typeface="나눔고딕"/>
              </a:rPr>
              <a:t>카메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그림 31" descr=""/>
          <p:cNvPicPr/>
          <p:nvPr/>
        </p:nvPicPr>
        <p:blipFill>
          <a:blip r:embed="rId4"/>
          <a:stretch/>
        </p:blipFill>
        <p:spPr>
          <a:xfrm>
            <a:off x="5022720" y="2374920"/>
            <a:ext cx="469440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제목 17" descr=""/>
          <p:cNvPicPr/>
          <p:nvPr/>
        </p:nvPicPr>
        <p:blipFill>
          <a:blip r:embed="rId1"/>
          <a:stretch/>
        </p:blipFill>
        <p:spPr>
          <a:xfrm>
            <a:off x="-19080" y="42840"/>
            <a:ext cx="9759960" cy="7858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56"/>
          <p:cNvSpPr/>
          <p:nvPr/>
        </p:nvSpPr>
        <p:spPr>
          <a:xfrm>
            <a:off x="169920" y="1276200"/>
            <a:ext cx="4734000" cy="13939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한쪽 모서리는 잘리고 다른 쪽 모서리는 둥근 사각형 14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R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56"/>
          <p:cNvSpPr/>
          <p:nvPr/>
        </p:nvSpPr>
        <p:spPr>
          <a:xfrm>
            <a:off x="5005440" y="1276200"/>
            <a:ext cx="4728960" cy="21765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한쪽 모서리는 잘리고 다른 쪽 모서리는 둥근 사각형 27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4)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3"/>
          <p:cNvSpPr/>
          <p:nvPr/>
        </p:nvSpPr>
        <p:spPr>
          <a:xfrm>
            <a:off x="169920" y="1420920"/>
            <a:ext cx="4734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Total length of roads: 77,000k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/ pavement rate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6% (main roads, 5,100km)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Difficult to travel during wet season (unpaved)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Planning to pave highway between Douala – Yaounde – Bafoussam - Douala (3,500km) by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56"/>
          <p:cNvSpPr/>
          <p:nvPr/>
        </p:nvSpPr>
        <p:spPr>
          <a:xfrm>
            <a:off x="169920" y="2903400"/>
            <a:ext cx="4734000" cy="11052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한쪽 모서리는 잘리고 다른 쪽 모서리는 둥근 사각형 36"/>
          <p:cNvSpPr/>
          <p:nvPr/>
        </p:nvSpPr>
        <p:spPr>
          <a:xfrm>
            <a:off x="166680" y="272412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Av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7"/>
          <p:cNvSpPr/>
          <p:nvPr/>
        </p:nvSpPr>
        <p:spPr>
          <a:xfrm>
            <a:off x="166680" y="3084480"/>
            <a:ext cx="473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International:</a:t>
            </a:r>
            <a:r>
              <a:rPr b="1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/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omestic:</a:t>
            </a:r>
            <a:r>
              <a:rPr b="1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1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(In reconstruction: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7)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International: ASECNA  - aviation navigation  &amp; met.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omestic: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ameroon Civil Aviation Authority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- met.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56"/>
          <p:cNvSpPr/>
          <p:nvPr/>
        </p:nvSpPr>
        <p:spPr>
          <a:xfrm>
            <a:off x="169920" y="4246560"/>
            <a:ext cx="4734000" cy="24051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한쪽 모서리는 잘리고 다른 쪽 모서리는 둥근 사각형 39"/>
          <p:cNvSpPr/>
          <p:nvPr/>
        </p:nvSpPr>
        <p:spPr>
          <a:xfrm>
            <a:off x="166680" y="406728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Railw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0"/>
          <p:cNvSpPr/>
          <p:nvPr/>
        </p:nvSpPr>
        <p:spPr>
          <a:xfrm>
            <a:off x="166680" y="4427640"/>
            <a:ext cx="26416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Total length of railways: 1,009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Important transportation method for domestic cargo logistics (passenger transport is in poor stat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dditional 1,000 km railway will be constructed to transport to the export port of mineral resources with foreign a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그림 41" descr=""/>
          <p:cNvPicPr/>
          <p:nvPr/>
        </p:nvPicPr>
        <p:blipFill>
          <a:blip r:embed="rId2"/>
          <a:stretch/>
        </p:blipFill>
        <p:spPr>
          <a:xfrm>
            <a:off x="2863800" y="4451400"/>
            <a:ext cx="1984320" cy="22003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356"/>
          <p:cNvSpPr/>
          <p:nvPr/>
        </p:nvSpPr>
        <p:spPr>
          <a:xfrm>
            <a:off x="5005440" y="3768840"/>
            <a:ext cx="4728960" cy="288288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한쪽 모서리는 잘리고 다른 쪽 모서리는 둥근 사각형 43"/>
          <p:cNvSpPr/>
          <p:nvPr/>
        </p:nvSpPr>
        <p:spPr>
          <a:xfrm>
            <a:off x="5005440" y="358920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5)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44"/>
          <p:cNvSpPr/>
          <p:nvPr/>
        </p:nvSpPr>
        <p:spPr>
          <a:xfrm>
            <a:off x="5013360" y="1420920"/>
            <a:ext cx="252900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4 marine ports, 6 river 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ouala por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ccounted for 80-85% of national port log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Kribi Deep Sea Por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started operation in Jun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Garoua Por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only available in the rainy season on the Benoué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그림 45" descr=""/>
          <p:cNvPicPr/>
          <p:nvPr/>
        </p:nvPicPr>
        <p:blipFill>
          <a:blip r:embed="rId3"/>
          <a:srcRect l="0" t="0" r="38158" b="0"/>
          <a:stretch/>
        </p:blipFill>
        <p:spPr>
          <a:xfrm>
            <a:off x="7542360" y="1460520"/>
            <a:ext cx="2149200" cy="19051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6"/>
          <p:cNvSpPr/>
          <p:nvPr/>
        </p:nvSpPr>
        <p:spPr>
          <a:xfrm>
            <a:off x="5005440" y="3940200"/>
            <a:ext cx="47289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Energy generatio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77% hydroelectric power (other: distillation, die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urrent power generation capacity: 1,137M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Required capacity: 2,000MW (to be increased to 3,000MW by 20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073480" y="4951440"/>
          <a:ext cx="4618080" cy="1738440"/>
        </p:xfrm>
        <a:graphic>
          <a:graphicData uri="http://schemas.openxmlformats.org/drawingml/2006/table">
            <a:tbl>
              <a:tblPr/>
              <a:tblGrid>
                <a:gridCol w="882720"/>
                <a:gridCol w="533520"/>
                <a:gridCol w="533520"/>
                <a:gridCol w="533160"/>
                <a:gridCol w="533520"/>
                <a:gridCol w="533520"/>
                <a:gridCol w="533160"/>
                <a:gridCol w="534960"/>
              </a:tblGrid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lectricity supply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01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2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6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6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6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Urb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9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91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u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7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8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30400">
                <a:tc gridSpan="8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Source : World Bank Open Data, WB(https://data.worldbank.org/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f5597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제목 17" descr=""/>
          <p:cNvPicPr/>
          <p:nvPr/>
        </p:nvPicPr>
        <p:blipFill>
          <a:blip r:embed="rId1"/>
          <a:stretch/>
        </p:blipFill>
        <p:spPr>
          <a:xfrm>
            <a:off x="-12600" y="42840"/>
            <a:ext cx="9753480" cy="7858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56"/>
          <p:cNvSpPr/>
          <p:nvPr/>
        </p:nvSpPr>
        <p:spPr>
          <a:xfrm>
            <a:off x="166680" y="1276200"/>
            <a:ext cx="830088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한쪽 모서리는 잘리고 다른 쪽 모서리는 둥근 사각형 14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Ge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3"/>
          <p:cNvSpPr/>
          <p:nvPr/>
        </p:nvSpPr>
        <p:spPr>
          <a:xfrm>
            <a:off x="166680" y="1425600"/>
            <a:ext cx="2633760" cy="19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ocation: Centra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 (western side)</a:t>
            </a:r>
            <a:br>
              <a:rPr sz="12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(Lat.</a:t>
            </a:r>
            <a:r>
              <a:rPr b="0" lang="ko-KR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2°N – 13°N, Long.</a:t>
            </a:r>
            <a:r>
              <a:rPr b="0" lang="ko-KR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8°E – 17°E)</a:t>
            </a:r>
            <a:r>
              <a:rPr b="0" lang="ko-KR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rea: 475,442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  <a:ea typeface="나눔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Neighboring countries: Nigeria, Chad, Central African Republic, Congo, Gabon, Equatorial Guin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03040" y="3157560"/>
          <a:ext cx="2508480" cy="1584360"/>
        </p:xfrm>
        <a:graphic>
          <a:graphicData uri="http://schemas.openxmlformats.org/drawingml/2006/table">
            <a:tbl>
              <a:tblPr/>
              <a:tblGrid>
                <a:gridCol w="573120"/>
                <a:gridCol w="747720"/>
                <a:gridCol w="118764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la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vg. Alt: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00 ~600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ent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High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vg. Alt: 900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damawa plateau: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,370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avanna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ownslo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ount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t. Cameroon (Alt: 4,070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그림 37" descr="E:\2018\1.프로젝트\04.(NIPA)카메룬(★)\06. 수행\03.자료수집\00.그림자료\Cameroon_Topography.png"/>
          <p:cNvPicPr/>
          <p:nvPr/>
        </p:nvPicPr>
        <p:blipFill>
          <a:blip r:embed="rId2"/>
          <a:stretch/>
        </p:blipFill>
        <p:spPr>
          <a:xfrm>
            <a:off x="3824280" y="1428840"/>
            <a:ext cx="4299120" cy="3327480"/>
          </a:xfrm>
          <a:prstGeom prst="rect">
            <a:avLst/>
          </a:prstGeom>
          <a:ln w="0">
            <a:noFill/>
          </a:ln>
        </p:spPr>
      </p:pic>
      <p:sp>
        <p:nvSpPr>
          <p:cNvPr id="227" name="TextBox 38"/>
          <p:cNvSpPr/>
          <p:nvPr/>
        </p:nvSpPr>
        <p:spPr>
          <a:xfrm>
            <a:off x="174600" y="5018040"/>
            <a:ext cx="25369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Main riv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Sanaga River: (Origin) Adamawa Plateau, (Destination) Atlantic ocea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Benue River: (Origin) Adamawa Plateau, (Destination) 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그림 62" descr=""/>
          <p:cNvPicPr/>
          <p:nvPr/>
        </p:nvPicPr>
        <p:blipFill>
          <a:blip r:embed="rId3"/>
          <a:stretch/>
        </p:blipFill>
        <p:spPr>
          <a:xfrm>
            <a:off x="4119480" y="5016600"/>
            <a:ext cx="398628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제목 17" descr=""/>
          <p:cNvPicPr/>
          <p:nvPr/>
        </p:nvPicPr>
        <p:blipFill>
          <a:blip r:embed="rId1"/>
          <a:stretch/>
        </p:blipFill>
        <p:spPr>
          <a:xfrm>
            <a:off x="-23760" y="42840"/>
            <a:ext cx="9764640" cy="7858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56"/>
          <p:cNvSpPr/>
          <p:nvPr/>
        </p:nvSpPr>
        <p:spPr>
          <a:xfrm>
            <a:off x="166680" y="1276200"/>
            <a:ext cx="473400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한쪽 모서리는 잘리고 다른 쪽 모서리는 둥근 사각형 14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Natural disa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56"/>
          <p:cNvSpPr/>
          <p:nvPr/>
        </p:nvSpPr>
        <p:spPr>
          <a:xfrm>
            <a:off x="5005440" y="1276200"/>
            <a:ext cx="472896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한쪽 모서리는 잘리고 다른 쪽 모서리는 둥근 사각형 27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4) External environment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4"/>
          <p:cNvSpPr/>
          <p:nvPr/>
        </p:nvSpPr>
        <p:spPr>
          <a:xfrm>
            <a:off x="174600" y="1413000"/>
            <a:ext cx="4726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Main natural disasters: heavy rains, floods, landslides, squalls, wind storms, thunderstorms, desertification, dr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90520" y="2171880"/>
          <a:ext cx="4610160" cy="1430280"/>
        </p:xfrm>
        <a:graphic>
          <a:graphicData uri="http://schemas.openxmlformats.org/drawingml/2006/table">
            <a:tbl>
              <a:tblPr/>
              <a:tblGrid>
                <a:gridCol w="1027080"/>
                <a:gridCol w="816120"/>
                <a:gridCol w="922320"/>
                <a:gridCol w="823680"/>
                <a:gridCol w="1020960"/>
              </a:tblGrid>
              <a:tr h="419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Natural disas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ccur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asual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Inju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mage co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thousand US$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19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Flo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375,3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rou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98,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Volcanic 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,7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3,4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Landsl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,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44440">
                <a:tc gridSpan="5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ource: EM-DAT: The Emergency Events Database - Universite catholique de Louvain (UCL) - CRED, D. Guha-Sapir - www.emdat.be, Brussels, Belgium : April 16, 2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6" name="Rectangle 356"/>
          <p:cNvSpPr/>
          <p:nvPr/>
        </p:nvSpPr>
        <p:spPr>
          <a:xfrm>
            <a:off x="5089680" y="1690560"/>
            <a:ext cx="4555800" cy="12384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0"/>
          <p:cNvSpPr/>
          <p:nvPr/>
        </p:nvSpPr>
        <p:spPr>
          <a:xfrm>
            <a:off x="5089680" y="1440000"/>
            <a:ext cx="1164960" cy="25056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ⓐ </a:t>
            </a: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56"/>
          <p:cNvSpPr/>
          <p:nvPr/>
        </p:nvSpPr>
        <p:spPr>
          <a:xfrm>
            <a:off x="5089680" y="3255840"/>
            <a:ext cx="4555800" cy="9414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4"/>
          <p:cNvSpPr/>
          <p:nvPr/>
        </p:nvSpPr>
        <p:spPr>
          <a:xfrm>
            <a:off x="5089680" y="3005280"/>
            <a:ext cx="1164960" cy="25056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ⓑ </a:t>
            </a: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Climate</a:t>
            </a: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56"/>
          <p:cNvSpPr/>
          <p:nvPr/>
        </p:nvSpPr>
        <p:spPr>
          <a:xfrm>
            <a:off x="5089680" y="4524480"/>
            <a:ext cx="4555800" cy="9414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46"/>
          <p:cNvSpPr/>
          <p:nvPr/>
        </p:nvSpPr>
        <p:spPr>
          <a:xfrm>
            <a:off x="5089680" y="4273560"/>
            <a:ext cx="1319040" cy="25092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ⓒ </a:t>
            </a: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Natural disa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텍스트 상자 2"/>
          <p:cNvSpPr/>
          <p:nvPr/>
        </p:nvSpPr>
        <p:spPr>
          <a:xfrm>
            <a:off x="5097600" y="1711440"/>
            <a:ext cx="4547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ocatio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at.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2°N – 13°N, Long.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8°E – 17°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rea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475,442 k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Based on 6° N La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South – plains, North – plateau (high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텍스트 상자 12"/>
          <p:cNvSpPr/>
          <p:nvPr/>
        </p:nvSpPr>
        <p:spPr>
          <a:xfrm>
            <a:off x="5089680" y="3251160"/>
            <a:ext cx="45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Köppen climate zon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: Af, Am, Aw, BSh, BW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Hythergraph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ecrease in precipitation toward north (desert clim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텍스트 상자 14"/>
          <p:cNvSpPr/>
          <p:nvPr/>
        </p:nvSpPr>
        <p:spPr>
          <a:xfrm>
            <a:off x="5097600" y="4535640"/>
            <a:ext cx="4547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Main natural disasters: heavy rains, floods, landslides, dr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Urban floods occur frequently due to heavy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andslides caused by heavy rainfall and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직사각형 1"/>
          <p:cNvSpPr/>
          <p:nvPr/>
        </p:nvSpPr>
        <p:spPr>
          <a:xfrm>
            <a:off x="174600" y="3730680"/>
            <a:ext cx="4726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Heavy rain: leads to flood damages (due to lack of social infrastructure; eg. poor drainage facilit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andslide: Landslide damage due to heavy rainfall and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Content Placeholder 3" descr="douala_flood_bonapriso_002"/>
          <p:cNvPicPr/>
          <p:nvPr/>
        </p:nvPicPr>
        <p:blipFill>
          <a:blip r:embed="rId2"/>
          <a:stretch/>
        </p:blipFill>
        <p:spPr>
          <a:xfrm>
            <a:off x="255600" y="4649760"/>
            <a:ext cx="2278080" cy="1604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3"/>
          <a:srcRect l="47894" t="20531" r="0" b="0"/>
          <a:stretch/>
        </p:blipFill>
        <p:spPr>
          <a:xfrm>
            <a:off x="2612880" y="4649760"/>
            <a:ext cx="220212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제목 17" descr=""/>
          <p:cNvPicPr/>
          <p:nvPr/>
        </p:nvPicPr>
        <p:blipFill>
          <a:blip r:embed="rId1"/>
          <a:stretch/>
        </p:blipFill>
        <p:spPr>
          <a:xfrm>
            <a:off x="-23760" y="42840"/>
            <a:ext cx="9764640" cy="785880"/>
          </a:xfrm>
          <a:prstGeom prst="rect">
            <a:avLst/>
          </a:prstGeom>
          <a:ln w="0">
            <a:noFill/>
          </a:ln>
        </p:spPr>
      </p:pic>
      <p:sp>
        <p:nvSpPr>
          <p:cNvPr id="249" name="TextBox 14"/>
          <p:cNvSpPr/>
          <p:nvPr/>
        </p:nvSpPr>
        <p:spPr>
          <a:xfrm>
            <a:off x="166680" y="3063960"/>
            <a:ext cx="473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MN is authorized by the Presidential Decree 2012/250 to develop and implement the climate policy of Cameroon Information (2012.06.01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6"/>
          <p:cNvSpPr/>
          <p:nvPr/>
        </p:nvSpPr>
        <p:spPr>
          <a:xfrm>
            <a:off x="166680" y="1425600"/>
            <a:ext cx="4734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884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First weather station in Cameroon (operated by Germa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885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Weather information first recor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20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Established DMN during the French coloni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60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Operation and management under Cameroon gov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56"/>
          <p:cNvSpPr/>
          <p:nvPr/>
        </p:nvSpPr>
        <p:spPr>
          <a:xfrm>
            <a:off x="166680" y="1276200"/>
            <a:ext cx="4734000" cy="135108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56"/>
          <p:cNvSpPr/>
          <p:nvPr/>
        </p:nvSpPr>
        <p:spPr>
          <a:xfrm>
            <a:off x="5005440" y="1276200"/>
            <a:ext cx="4728960" cy="29149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한쪽 모서리는 잘리고 다른 쪽 모서리는 둥근 사각형 13"/>
          <p:cNvSpPr/>
          <p:nvPr/>
        </p:nvSpPr>
        <p:spPr>
          <a:xfrm>
            <a:off x="5005440" y="1052640"/>
            <a:ext cx="391140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한쪽 모서리는 잘리고 다른 쪽 모서리는 둥근 사각형 9"/>
          <p:cNvSpPr/>
          <p:nvPr/>
        </p:nvSpPr>
        <p:spPr>
          <a:xfrm>
            <a:off x="166680" y="1052640"/>
            <a:ext cx="387972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56"/>
          <p:cNvSpPr/>
          <p:nvPr/>
        </p:nvSpPr>
        <p:spPr>
          <a:xfrm>
            <a:off x="166680" y="2882880"/>
            <a:ext cx="4734000" cy="376884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한쪽 모서리는 잘리고 다른 쪽 모서리는 둥근 사각형 18"/>
          <p:cNvSpPr/>
          <p:nvPr/>
        </p:nvSpPr>
        <p:spPr>
          <a:xfrm>
            <a:off x="166680" y="2703600"/>
            <a:ext cx="387972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직사각형 2"/>
          <p:cNvSpPr/>
          <p:nvPr/>
        </p:nvSpPr>
        <p:spPr>
          <a:xfrm>
            <a:off x="263520" y="4125960"/>
            <a:ext cx="45482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1.</a:t>
            </a:r>
            <a:r>
              <a:rPr b="0" lang="ko-KR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Weather and Climate Monit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2.</a:t>
            </a:r>
            <a:r>
              <a:rPr b="0" lang="ko-KR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Met. Data collection and process (International, Domestic)</a:t>
            </a:r>
            <a:r>
              <a:rPr b="0" lang="ko-KR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3. Analysis of collected met.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4. Forec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5.</a:t>
            </a:r>
            <a:r>
              <a:rPr b="0" lang="ko-KR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Public Weather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6. Met. Statistics &amp; Climate data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7. Monitoring of weather surveillance center in the airpo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8. Management of WMO rel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9. Management of implementation on met / atmospheric related agreement and protoc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56"/>
          <p:cNvSpPr/>
          <p:nvPr/>
        </p:nvSpPr>
        <p:spPr>
          <a:xfrm>
            <a:off x="255600" y="4125960"/>
            <a:ext cx="4556160" cy="23479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직사각형 22"/>
          <p:cNvSpPr/>
          <p:nvPr/>
        </p:nvSpPr>
        <p:spPr>
          <a:xfrm>
            <a:off x="255600" y="3875040"/>
            <a:ext cx="1165320" cy="25092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5964120" y="1774800"/>
            <a:ext cx="2811600" cy="23576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4"/>
          <p:cNvSpPr/>
          <p:nvPr/>
        </p:nvSpPr>
        <p:spPr>
          <a:xfrm>
            <a:off x="5005440" y="1425600"/>
            <a:ext cx="47289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 director, 2 sub-departments, and 8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56"/>
          <p:cNvSpPr/>
          <p:nvPr/>
        </p:nvSpPr>
        <p:spPr>
          <a:xfrm>
            <a:off x="5005440" y="4451400"/>
            <a:ext cx="4728960" cy="22003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한쪽 모서리는 잘리고 다른 쪽 모서리는 둥근 사각형 25"/>
          <p:cNvSpPr/>
          <p:nvPr/>
        </p:nvSpPr>
        <p:spPr>
          <a:xfrm>
            <a:off x="5005440" y="4272120"/>
            <a:ext cx="391140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4) Man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041800" y="5000760"/>
          <a:ext cx="4656240" cy="531720"/>
        </p:xfrm>
        <a:graphic>
          <a:graphicData uri="http://schemas.openxmlformats.org/drawingml/2006/table">
            <a:tbl>
              <a:tblPr/>
              <a:tblGrid>
                <a:gridCol w="1569960"/>
                <a:gridCol w="3086280"/>
              </a:tblGrid>
              <a:tr h="268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otal Quo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urrent 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3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63 (HQ: 18, Region: 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직사각형 30"/>
          <p:cNvSpPr/>
          <p:nvPr/>
        </p:nvSpPr>
        <p:spPr>
          <a:xfrm>
            <a:off x="5005440" y="5545080"/>
            <a:ext cx="47289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50000"/>
              </a:lnSpc>
              <a:buClr>
                <a:srgbClr val="000000"/>
              </a:buClr>
              <a:buSzPct val="7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National Advanced School of Polytechnics: Potential staffs are tr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5040360" y="5913360"/>
          <a:ext cx="4659120" cy="692280"/>
        </p:xfrm>
        <a:graphic>
          <a:graphicData uri="http://schemas.openxmlformats.org/drawingml/2006/table">
            <a:tbl>
              <a:tblPr/>
              <a:tblGrid>
                <a:gridCol w="1165320"/>
                <a:gridCol w="1164960"/>
                <a:gridCol w="1163880"/>
                <a:gridCol w="1164960"/>
              </a:tblGrid>
              <a:tr h="478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et. Engine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echnici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ssistant engine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ssista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14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직사각형 32"/>
          <p:cNvSpPr/>
          <p:nvPr/>
        </p:nvSpPr>
        <p:spPr>
          <a:xfrm>
            <a:off x="5005440" y="4632480"/>
            <a:ext cx="47289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urrent staff number of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MN: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제목 17" descr=""/>
          <p:cNvPicPr/>
          <p:nvPr/>
        </p:nvPicPr>
        <p:blipFill>
          <a:blip r:embed="rId1"/>
          <a:stretch/>
        </p:blipFill>
        <p:spPr>
          <a:xfrm>
            <a:off x="-23760" y="42840"/>
            <a:ext cx="9764640" cy="7858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13"/>
          <p:cNvSpPr/>
          <p:nvPr/>
        </p:nvSpPr>
        <p:spPr>
          <a:xfrm>
            <a:off x="166680" y="1424160"/>
            <a:ext cx="473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irector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– NMC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– Service of observation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04840" y="2362320"/>
          <a:ext cx="4657680" cy="2490840"/>
        </p:xfrm>
        <a:graphic>
          <a:graphicData uri="http://schemas.openxmlformats.org/drawingml/2006/table">
            <a:tbl>
              <a:tblPr/>
              <a:tblGrid>
                <a:gridCol w="1090440"/>
                <a:gridCol w="809640"/>
                <a:gridCol w="2757600"/>
              </a:tblGrid>
              <a:tr h="4204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 du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22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 of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e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al network manag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278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(shar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al network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p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al chie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rdinating the service in the reg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ds the monthly re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9979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ff in reg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ace observ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e synoptic code and re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hly statistics of observation data and send through po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tain the equi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Rectangle 356"/>
          <p:cNvSpPr/>
          <p:nvPr/>
        </p:nvSpPr>
        <p:spPr>
          <a:xfrm>
            <a:off x="166680" y="1276200"/>
            <a:ext cx="4734000" cy="5922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56"/>
          <p:cNvSpPr/>
          <p:nvPr/>
        </p:nvSpPr>
        <p:spPr>
          <a:xfrm>
            <a:off x="5005440" y="1276200"/>
            <a:ext cx="472896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한쪽 모서리는 잘리고 다른 쪽 모서리는 둥근 사각형 33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한쪽 모서리는 잘리고 다른 쪽 모서리는 둥근 사각형 7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Surface Observation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56"/>
          <p:cNvSpPr/>
          <p:nvPr/>
        </p:nvSpPr>
        <p:spPr>
          <a:xfrm>
            <a:off x="166680" y="2166840"/>
            <a:ext cx="4734000" cy="272124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한쪽 모서리는 잘리고 다른 쪽 모서리는 둥근 사각형 17"/>
          <p:cNvSpPr/>
          <p:nvPr/>
        </p:nvSpPr>
        <p:spPr>
          <a:xfrm>
            <a:off x="166680" y="194328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Man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070600" y="1793880"/>
          <a:ext cx="3046320" cy="4786200"/>
        </p:xfrm>
        <a:graphic>
          <a:graphicData uri="http://schemas.openxmlformats.org/drawingml/2006/table">
            <a:tbl>
              <a:tblPr/>
              <a:tblGrid>
                <a:gridCol w="830160"/>
                <a:gridCol w="874800"/>
                <a:gridCol w="733320"/>
                <a:gridCol w="608040"/>
              </a:tblGrid>
              <a:tr h="6602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le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yc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ta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ollec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yc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11923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ynoptic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t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0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*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8 observation stations in pl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, H, P, WD, WS, PCPN, SD, ST, S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loud(A, T, H), Visibility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Weather phenomen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 times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hourly/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ytim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 times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hourly/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ytime)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phon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2844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limatologica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tation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 (Max/mi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avg)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CP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daily su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: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 times/day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CPN: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 time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 time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day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phon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aingauge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*Plan: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600 stns, Current: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~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00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tns in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CP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daily su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 time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 time/mon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post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WS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20 Japan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 China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, H, P, WD, WS, PCP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very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5m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very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5 m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GPR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8" name="그림 19" descr=""/>
          <p:cNvPicPr/>
          <p:nvPr/>
        </p:nvPicPr>
        <p:blipFill>
          <a:blip r:embed="rId2"/>
          <a:srcRect l="0" t="0" r="50006" b="0"/>
          <a:stretch/>
        </p:blipFill>
        <p:spPr>
          <a:xfrm>
            <a:off x="8185320" y="1511280"/>
            <a:ext cx="1549080" cy="17654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" descr="C:\Users\JY\Downloads\3.scan\img002.jpg"/>
          <p:cNvPicPr/>
          <p:nvPr/>
        </p:nvPicPr>
        <p:blipFill>
          <a:blip r:embed="rId3"/>
          <a:srcRect l="8737" t="7107" r="11847" b="15221"/>
          <a:stretch/>
        </p:blipFill>
        <p:spPr>
          <a:xfrm>
            <a:off x="8234280" y="3281400"/>
            <a:ext cx="1500120" cy="1884240"/>
          </a:xfrm>
          <a:prstGeom prst="rect">
            <a:avLst/>
          </a:prstGeom>
          <a:ln w="0">
            <a:noFill/>
          </a:ln>
        </p:spPr>
      </p:pic>
      <p:sp>
        <p:nvSpPr>
          <p:cNvPr id="280" name="모서리가 둥근 직사각형 21"/>
          <p:cNvSpPr/>
          <p:nvPr/>
        </p:nvSpPr>
        <p:spPr>
          <a:xfrm>
            <a:off x="8238960" y="1363680"/>
            <a:ext cx="1457640" cy="20628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고딕"/>
                <a:ea typeface="나눔고딕"/>
              </a:rPr>
              <a:t>Surface obs. net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모서리가 둥근 직사각형 22"/>
          <p:cNvSpPr/>
          <p:nvPr/>
        </p:nvSpPr>
        <p:spPr>
          <a:xfrm>
            <a:off x="8331120" y="3335400"/>
            <a:ext cx="1365480" cy="20628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고딕"/>
                <a:ea typeface="나눔고딕"/>
              </a:rPr>
              <a:t>AWS net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그림 23" descr=""/>
          <p:cNvPicPr/>
          <p:nvPr/>
        </p:nvPicPr>
        <p:blipFill>
          <a:blip r:embed="rId4"/>
          <a:stretch/>
        </p:blipFill>
        <p:spPr>
          <a:xfrm>
            <a:off x="166680" y="4968720"/>
            <a:ext cx="2276640" cy="1683000"/>
          </a:xfrm>
          <a:prstGeom prst="rect">
            <a:avLst/>
          </a:prstGeom>
          <a:ln w="0">
            <a:noFill/>
          </a:ln>
        </p:spPr>
      </p:pic>
      <p:pic>
        <p:nvPicPr>
          <p:cNvPr id="283" name="그림 24" descr="E:\2018\1.프로젝트\04.(NIPA)카메룬(★)\06. 수행\07.2차출장\2018NIPA_카메룬_DMN환경조사 사진모음(기자재, 장비)_20181015_화종\2차출장\EDEA관측소(사무실1).jpg"/>
          <p:cNvPicPr/>
          <p:nvPr/>
        </p:nvPicPr>
        <p:blipFill>
          <a:blip r:embed="rId5"/>
          <a:stretch/>
        </p:blipFill>
        <p:spPr>
          <a:xfrm>
            <a:off x="2533680" y="4968720"/>
            <a:ext cx="2367000" cy="1683000"/>
          </a:xfrm>
          <a:prstGeom prst="rect">
            <a:avLst/>
          </a:prstGeom>
          <a:ln w="0">
            <a:noFill/>
          </a:ln>
        </p:spPr>
      </p:pic>
      <p:pic>
        <p:nvPicPr>
          <p:cNvPr id="284" name="그림 25" descr="E:\2018\1.프로젝트\04.(NIPA)카메룬(★)\06. 수행\07.2차출장\2018NIPA_카메룬_DMN환경조사 사진모음(기자재, 장비)_20181015_화종\2차출장\EDEA관측소(장비1).jpg"/>
          <p:cNvPicPr/>
          <p:nvPr/>
        </p:nvPicPr>
        <p:blipFill>
          <a:blip r:embed="rId6"/>
          <a:stretch/>
        </p:blipFill>
        <p:spPr>
          <a:xfrm>
            <a:off x="8185320" y="5227560"/>
            <a:ext cx="15015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3T14:06:50Z</dcterms:created>
  <dc:creator>WeatherPia</dc:creator>
  <dc:description/>
  <dc:language>en-US</dc:language>
  <cp:lastModifiedBy>mamiThio</cp:lastModifiedBy>
  <cp:lastPrinted>2017-12-11T09:23:58Z</cp:lastPrinted>
  <dcterms:modified xsi:type="dcterms:W3CDTF">2019-04-10T16:10:19Z</dcterms:modified>
  <cp:revision>577</cp:revision>
  <dc:subject/>
  <dc:title>PowerPoint 프레젠테이션</dc:title>
</cp:coreProperties>
</file>